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12.jpeg" ContentType="image/jpeg"/>
  <Override PartName="/ppt/media/image8.wmf" ContentType="image/x-wmf"/>
  <Override PartName="/ppt/media/image29.jpeg" ContentType="image/jpeg"/>
  <Override PartName="/ppt/media/image10.jpeg" ContentType="image/jpeg"/>
  <Override PartName="/ppt/media/image35.jpeg" ContentType="image/jpeg"/>
  <Override PartName="/ppt/media/image9.wmf" ContentType="image/x-wmf"/>
  <Override PartName="/ppt/media/image31.jpeg" ContentType="image/jpeg"/>
  <Override PartName="/ppt/media/image32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.wmf" ContentType="image/x-wmf"/>
  <Override PartName="/ppt/media/image11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660-C367-435E-A880-03AF1CAB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BFD-E7B7-461D-9DA2-183FA26B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A3A-6D2B-40CC-B5F1-AE55D06D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D47-882C-482E-BA2E-C27EEC57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B15-8E32-4F00-A357-F7D0659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1D8-5ADA-4661-8C22-5910E9FD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B2A-5E82-4342-91FF-DC3DF89B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B06-4F6A-4345-9CFE-C15E505E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262-0715-4687-ABFF-4087FEF2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962-7867-4804-A821-43D16A1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8CF-F681-4CFF-B922-CB55661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008-ED37-4B0F-B9D1-33B4665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28C4-3585-47AA-AD0C-5B7F1655B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google.com/imgres?imgurl=http://www.teracorpinc.com/images/rental.jpg&amp;imgrefurl=http://www.teracorpinc.com/&amp;h=900&amp;w=900&amp;sz=91&amp;tbnid=o9lSproStOcJ::&amp;tbnh=146&amp;tbnw=146&amp;prev=/images%3Fq%3Drental%2Bpictures&amp;hl=en&amp;usg=__pe0XfNcEcvGUKYxPUbUDRczo-xQ=&amp;sa=X&amp;oi=image_result&amp;resnum=2&amp;ct=image&amp;cd=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ecx.images-amazon.com/images/I/41xInVdD7jL._AA280_.jpg&amp;imgrefurl=http://www.homeowner.net/2008/can-a-renter-get-insurance-for-her-home/&amp;usg=__I33m-ei6PzhGNOx4rFxgx6cAJkY=&amp;h=280&amp;w=280&amp;sz=20&amp;hl=en&amp;start=23&amp;um=1&amp;tbnid=NTT-sZoZuInoFM:&amp;tbnh=114&amp;tbnw=114&amp;prev=/images%3Fq%3Drenters%2Binsurance%26start%3D20%26ndsp%3D20%26um%3D1%26hl%3Den%26safe%3Dactive%26sa%3DN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owratemaster.com/imgs/renters-insurance-img.jpg&amp;imgrefurl=http://www.lowratemaster.com/renters/&amp;usg=__OZmbkMxeVsIFzU1Sl58psa4QJZk=&amp;h=320&amp;w=240&amp;sz=12&amp;hl=en&amp;start=7&amp;um=1&amp;tbnid=2Huom136g0-vVM:&amp;tbnh=118&amp;tbnw=89&amp;prev=/images%3Fq%3Drenters%2Binsurance%26um%3D1%26hl%3Den%26safe%3Dactive%26sa%3DX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insurancetraders.com/property/renters.jpg&amp;imgrefurl=http://www.insurancetraders.com/property/renters.html&amp;usg=__y6W_j-5zXlA--MXjfYacEjqKdOQ=&amp;h=245&amp;w=291&amp;sz=17&amp;hl=en&amp;start=26&amp;um=1&amp;tbnid=KZbv0XDjUuPlRM:&amp;tbnh=97&amp;tbnw=115&amp;prev=/images%3Fq%3Drenters%2Binsurance%26start%3D20%26ndsp%3D20%26um%3D1%26hl%3Den%26safe%3Dactive%26sa%3D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cahomeinsurance.com/images/more_images/Renters_Apartments_homeowners_CA.jpg&amp;imgrefurl=http://www.cahomeinsurance.com/Other_California_Insurance.htm&amp;usg=__mOazt2GjEk3snMp3-_3OicGs484=&amp;h=427&amp;w=639&amp;sz=28&amp;hl=en&amp;start=34&amp;um=1&amp;tbnid=hlP3mhS1Xhw6YM:&amp;tbnh=92&amp;tbnw=137&amp;prev=/images%3Fq%3Drenters%2Binsurance%26start%3D20%26ndsp%3D20%26um%3D1%26hl%3Den%26safe%3Dactive%26sa%3DN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icepropertymanagement.net/userfiles/Utilities(2).jpg&amp;imgrefurl=http://www.choicepropertymanagement.net/index.php%3Faction%3Dpage_display%26PageID%3D5&amp;usg=__I7nxZK0LKh-ENUJ4zfrOhXsjPbM=&amp;h=439&amp;w=365&amp;sz=28&amp;hl=en&amp;start=2&amp;um=1&amp;tbnid=dLtBM_sKe1C00M:&amp;tbnh=127&amp;tbnw=106&amp;prev=/images%3Fq%3Dutilities%26um%3D1%26hl%3Den%26safe%3Dactiv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cache.daylife.com/imageserve/05bUf9W9GY9zC/340x.jpg&amp;imgrefurl=http://www.daylife.com/photo/05bUf9W9GY9zC&amp;usg=__cxz2LbKSblEPtwOXcRa6NuLgcjQ=&amp;h=519&amp;w=340&amp;sz=45&amp;hl=en&amp;start=17&amp;um=1&amp;tbnid=xomo50p6AxomHM:&amp;tbnh=131&amp;tbnw=86&amp;prev=/images%3Fq%3Dutilities%2Bin%2Bcharlotte%2Bnc%26um%3D1%26hl%3Den%26safe%3Dactive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dunsliving.com/images/time_warner.bmp&amp;imgrefurl=http://dunsliving.com/Time_Warne_Cable.html&amp;usg=__FnbGbK_AMnIF7GB2ep1jco9O3mU=&amp;h=900&amp;w=691&amp;sz=1825&amp;hl=en&amp;start=5&amp;um=1&amp;tbnid=m5tO9XkxSAnlVM:&amp;tbnh=146&amp;tbnw=112&amp;prev=/images%3Fq%3Dtime%2Bwarner%2Bcable%26um%3D1%26hl%3Den%26safe%3Dactive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cache.wral.com/asset/business/local_tech_wire/news/2008/06/09/3014217/natural_gas-220x165.jpg&amp;imgrefurl=http://localtechwire.com/business/local_tech_wire/news/story/3014195/&amp;usg=__YczqZkuKKj6QWpxN4el0lc24yDw=&amp;h=165&amp;w=220&amp;sz=5&amp;hl=en&amp;start=13&amp;um=1&amp;tbnid=XWX-zqYzrm6q9M:&amp;tbnh=80&amp;tbnw=107&amp;prev=/images%3Fq%3Dpiedmont%2Bnatural%2Bgas%26um%3D1%26hl%3Den%26safe%3Dactive%26sa%3DX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google.com/imgres?imgurl=http://www.lecbiz.com/Asbestos_Abatement_Contractor_-_BellSouth.gif&amp;imgrefurl=http://www.lecbiz.com/&amp;usg=__XSvynl1KFLbgkWnbCYDYHUI_D-M=&amp;h=233&amp;w=350&amp;sz=52&amp;hl=en&amp;start=26&amp;um=1&amp;tbnid=DxEfeXwSeM0VtM:&amp;tbnh=80&amp;tbnw=120&amp;prev=/images%3Fq%3Dbell%2Bsouth%2Btelephone%2Bcompany%26start%3D20%26ndsp%3D20%26um%3D1%26hl%3Den%26safe%3Dactive%26sa%3DN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images.google.com/imgres?imgurl=http://www.ashleyoakscommunity.com/images/trash%2520collection%2520times.JPG&amp;imgrefurl=http://www.ashleyoakscommunity.com/services.htm&amp;usg=__AoSIZy4jkOnteqFz7zXl5BqTYgY=&amp;h=336&amp;w=412&amp;sz=45&amp;hl=en&amp;start=6&amp;um=1&amp;tbnid=sv3R8vvv80pqqM:&amp;tbnh=102&amp;tbnw=125&amp;prev=/images%3Fq%3Dtrash%2Bcollection%26um%3D1%26hl%3Den%26safe%3Dactive" TargetMode="External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untufordummies.com/rightnow/pictures/ebay-Rental_Lease.jpg&amp;imgrefurl=http://activerain.com/blogsview/404328/Rental-Agreement-Lease-Agreement&amp;usg=__v6cLHGDJ9NH2AfInzhFzc5niLLM=&amp;h=912&amp;w=700&amp;sz=110&amp;hl=en&amp;start=18&amp;um=1&amp;tbnid=WjBcPj1v4u3YjM:&amp;tbnh=147&amp;tbnw=113&amp;prev=/images%3Fq%3Drental%2Bagreements%26um%3D1%26hl%3Den%26safe%3Dactive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ownstoner.com/brownstoner/archives/2007/09/subletting_your.php" TargetMode="External"/><Relationship Id="rId2" Type="http://schemas.openxmlformats.org/officeDocument/2006/relationships/hyperlink" Target="http://images.google.com/imgres?imgurl=http://www.tosublet.com/images/logo.gif&amp;imgrefurl=http://www.tosublet.com/new_customer/new_customer.cfm&amp;usg=__T81G6TMyHxkR9_w7B9EFYD4i6Fk=&amp;h=75&amp;w=290&amp;sz=7&amp;hl=en&amp;start=25&amp;um=1&amp;tbnid=y0x91r7FBDQNaM:&amp;tbnh=30&amp;tbnw=115&amp;prev=/images%3Fq%3Dsublet%2Bapartment%2Bsigns%26start%3D20%26ndsp%3D20%26um%3D1%26hl%3Den%26safe%3Dactive%26sa%3DN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www.brownstoner.com/brownstoner/archives/keys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nhcr.ca/help/images/eviction2.jpg&amp;imgrefurl=http://www.unhcr.ca/help/default.htm&amp;usg=__S_rkCMPJqB8mq9GGej7Q2PbHLCo=&amp;h=584&amp;w=760&amp;sz=80&amp;hl=en&amp;start=3&amp;um=1&amp;tbnid=Sw_C0UwGU4GXWM:&amp;tbnh=109&amp;tbnw=142&amp;prev=/images%3Fq%3Deviction%26um%3D1%26hl%3Den%26safe%3Dactive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www.synergyprofessionals.com/images/Eviction%2520Book%2520Cover%2520-%2520Small%2520Size.JPG&amp;imgrefurl=http://www.synergyprofessionals.com/EvictionBook.html&amp;usg=__pX6zxU35R7iEBbhnKk1_VDXdk4M=&amp;h=511&amp;w=350&amp;sz=25&amp;hl=en&amp;start=8&amp;um=1&amp;tbnid=i4Nsaq0LE3hYmM:&amp;tbnh=131&amp;tbnw=90&amp;prev=/images%3Fq%3Deviction%26um%3D1%26hl%3Den%26safe%3Dactive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www.bad-creditproblems.com/eviction-2.jpg&amp;imgrefurl=http://www.bad-creditproblems.com/evicnot.html&amp;usg=__UwT5c3fqfqUV_VH6_FIJfjsumSQ=&amp;h=300&amp;w=550&amp;sz=97&amp;hl=en&amp;start=13&amp;um=1&amp;tbnid=9Uaa1UBFuJSWQM:&amp;tbnh=73&amp;tbnw=133&amp;prev=/images%3Fq%3Deviction%26um%3D1%26hl%3Den%26safe%3Dactive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images.google.com/imgres?imgurl=http://www.banks.com/blogs/realestate/wp-content/uploads/2008/04/eviction-notice.jpg&amp;imgrefurl=http://www.banks.com/blogs/realestate/category/seller-financing/&amp;usg=__VWYB-Xzpv85FS4AY27WJvOX5pu8=&amp;h=400&amp;w=350&amp;sz=52&amp;hl=en&amp;start=17&amp;um=1&amp;tbnid=HNySClIDsUlsnM:&amp;tbnh=124&amp;tbnw=109&amp;prev=/images%3Fq%3Deviction%26um%3D1%26hl%3Den%26safe%3Dactive" TargetMode="External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hiolandlordtenant.com/cover24.jpg&amp;imgrefurl=http://www.ohiolandlordtenant.com/revised.html&amp;usg=__T5wL6CvpeCKwhrs2mw34tgoNQ_c=&amp;h=400&amp;w=350&amp;sz=26&amp;hl=en&amp;start=111&amp;um=1&amp;tbnid=uIyLi0vMfvMHOM:&amp;tbnh=124&amp;tbnw=109&amp;prev=/images%3Fq%3Dbreach%2Bof%2Bcontract%2Brenting%26start%3D100%26ndsp%3D20%26um%3D1%26hl%3Den%26safe%3Dactive%26sa%3DN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images.google.com/imgres?imgurl=http://baghdasarian.com/images/j0422442.jpg&amp;imgrefurl=http://baghdasarian.com/our_services.html&amp;usg=__9UvxmfA6Mpouqs-RzxrZOPZfVhk=&amp;h=925&amp;w=1280&amp;sz=190&amp;hl=en&amp;start=38&amp;um=1&amp;tbnid=0x7tuSlodzVh-M:&amp;tbnh=108&amp;tbnw=150&amp;prev=/images%3Fq%3Dwhat%2Bis%2Bbreach%2Bof%2Bcontract%26start%3D20%26ndsp%3D20%26um%3D1%26hl%3Den%26safe%3Dactive%26sa%3DN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images.google.com/imgres?imgurl=http://ecx.images-amazon.com/images/I/417W0SX4VAL._SL500_AA240_.jpg&amp;imgrefurl=http://www.amazon.com/Breach-Contract-Denise-Gambino/dp/156315207X&amp;usg=__VDvN70eoClUU5-zTxqyGu2Z8AmQ=&amp;h=240&amp;w=240&amp;sz=10&amp;hl=en&amp;start=67&amp;um=1&amp;tbnid=tX_7rnk2ssWEIM:&amp;tbnh=110&amp;tbnw=110&amp;prev=/images%3Fq%3Dwhat%2Bis%2Bbreach%2Bof%2Bcontract%26start%3D60%26ndsp%3D20%26um%3D1%26hl%3Den%26safe%3Dactive%26sa%3DN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hyperlink" Target="http://images.google.com/imgres?imgurl=http://ameglegal.files.wordpress.com/2007/09/lease.jpg&amp;imgrefurl=http://ameglegal.wordpress.com/2007/09/14/tgif-legal-tip-rental-deposits-in-nevada/&amp;usg=__e1tdoooCzD-6i6KML8c1rQSxB-s=&amp;h=594&amp;w=532&amp;sz=37&amp;hl=en&amp;start=118&amp;um=1&amp;tbnid=-D_lWOBSQCC8FM:&amp;tbnh=135&amp;tbnw=121&amp;prev=/images%3Fq%3Dbreach%2Bof%2Bcontract%2Brenting%26start%3D100%26ndsp%3D20%26um%3D1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xpress.cuna.org/files2/6262c.jpg&amp;imgrefurl=http://www.atlantatenantplacement.com/Blogs/home.aspx&amp;usg=__OoYm9_g7sPSjwfl3vL_6GRLPI3Y=&amp;h=885&amp;w=1225&amp;sz=375&amp;hl=en&amp;start=2&amp;um=1&amp;tbnid=ncGMRj4L5iHIrM:&amp;tbnh=108&amp;tbnw=150&amp;prev=/images%3Fq%3Dcredit%2Breports%26um%3D1%26hl%3Den%26safe%3Dactiv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activerain.com/image_store/uploads/7/4/7/0/0/ar117151244100747.jpg&amp;imgrefurl=http://activerain.com/blogsview/45603/Why-Are-Credit-Scores&amp;usg=__b_YcUBLy5rUgLoef0VHJZc-2qQY=&amp;h=716&amp;w=800&amp;sz=58&amp;hl=en&amp;start=13&amp;um=1&amp;tbnid=1koh6wUwCWD68M:&amp;tbnh=128&amp;tbnw=143&amp;prev=/images%3Fq%3Dcredit%2Breports%26um%3D1%26hl%3Den%26safe%3Dactive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-legal-document.com/images/security-deposit.jpg&amp;imgrefurl=http://www.free-legal-document.com/landlord-tenant-rights.html&amp;usg=__YKuaPdmkZAey47IsD9DJtLBp8VI=&amp;h=258&amp;w=175&amp;sz=10&amp;hl=en&amp;start=77&amp;um=1&amp;tbnid=rtLDF3yDEbYB8M:&amp;tbnh=112&amp;tbnw=76&amp;prev=/images%3Fq%3Dsecurity%2Bdeposit%26start%3D60%26ndsp%3D20%26um%3D1%26hl%3Den%26safe%3Dactive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fullertonhillsapts.net/images/kims%2520place.JPG&amp;imgrefurl=http://fullertonhillsapts.net/floorplans.htm&amp;usg=__Wq0IKKA2SQAr3bukouAG2CdTB9E=&amp;h=544&amp;w=725&amp;sz=56&amp;hl=en&amp;start=80&amp;um=1&amp;tbnid=yJELmHDqxNR2NM:&amp;tbnh=105&amp;tbnw=140&amp;prev=/images%3Fq%3Dsecurity%2Bdeposit%26start%3D60%26ndsp%3D20%26um%3D1%26hl%3Den%26safe%3Dactive%26sa%3D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tsok.com/Pets%2520Ok%2520Apartment%2520and%2520Home%2520Rental%2520logo.jpg&amp;imgrefurl=http://www.petsok.com/&amp;usg=__IM4y8KPO-hLi5OsLbfIr8PI6WUs=&amp;h=321&amp;w=1000&amp;sz=29&amp;hl=en&amp;start=4&amp;um=1&amp;tbnid=N-WTwcui7nWA8M:&amp;tbnh=48&amp;tbnw=149&amp;prev=/images%3Fq%3Dpets%26um%3D1%26hl%3Den%26safe%3Dactive%26sa%3D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turtlemat.co.uk/uploads/categories/pets.jpg&amp;imgrefurl=http://www.turtlemat.co.uk/Pet-mats-dog-mats/&amp;usg=__gPjgDD1XD-WZfPzpId99pSOZVz0=&amp;h=360&amp;w=320&amp;sz=44&amp;hl=en&amp;start=16&amp;um=1&amp;tbnid=LJIMDrwnScLUeM:&amp;tbnh=121&amp;tbnw=108&amp;prev=/images%3Fq%3Dpets%26um%3D1%26hl%3Den%26safe%3Dactive%26sa%3D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mocoloco.com/archives/pets_biorb_aquarium_may_04.jpg&amp;imgrefurl=http://www.mocoloco.com/archives/000385.php&amp;usg=__Cp3k8GuVibE4z3VkrXZK1LJ-HOg=&amp;h=313&amp;w=331&amp;sz=15&amp;hl=en&amp;start=44&amp;um=1&amp;tbnid=1oUw8gSnB7vkaM:&amp;tbnh=113&amp;tbnw=119&amp;prev=/images%3Fq%3Dpets%26start%3D40%26ndsp%3D20%26um%3D1%26hl%3Den%26safe%3Dactive%26sa%3D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americanpetsittingservices.com/images/3pets.gif&amp;imgrefurl=http://americanpetsittingservices.com/&amp;usg=__vWjL_0pD18I8LYbpM_hazfJKanc=&amp;h=300&amp;w=300&amp;sz=48&amp;hl=en&amp;start=85&amp;um=1&amp;tbnid=duh4iMvLB5PDOM:&amp;tbnh=116&amp;tbnw=116&amp;prev=/images%3Fq%3Dpets%26start%3D80%26ndsp%3D20%26um%3D1%26hl%3Den%26safe%3Dactive%26sa%3D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nors-agents.com/images/leese2.jpg&amp;imgrefurl=http://www.manors-agents.com/leasing.htm&amp;usg=__p4Z_sD7a33hWZ0_5t7PAHXfUlEE=&amp;h=497&amp;w=378&amp;sz=23&amp;hl=en&amp;start=2&amp;um=1&amp;tbnid=qMTuVvL5T7L62M:&amp;tbnh=130&amp;tbnw=99&amp;prev=/images%3Fq%3Dadvance%2Bon%2Brent%26um%3D1%26hl%3Den%26safe%3Dactive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barnethomes.org/OurServices/YourTenancy/PublishingImages/currency.jpg&amp;imgrefurl=http://www.barnethomes.org/OurServices/YourTenancy/Pages/Your%2520Rent.aspx&amp;usg=__eO1Dfz90gAIv_VNILbKr1P4-yRE=&amp;h=233&amp;w=350&amp;sz=34&amp;hl=en&amp;start=40&amp;um=1&amp;tbnid=4ihpOU3tL9noJM:&amp;tbnh=80&amp;tbnw=120&amp;prev=/images%3Fq%3Dadvance%2Bon%2Brent%26start%3D20%26ndsp%3D20%26um%3D1%26hl%3Den%26safe%3Dactive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0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and Legal Aspects of R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4017960"/>
            <a:ext cx="2141280" cy="207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http://www.teracorpinc.com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04920"/>
            <a:ext cx="2133360" cy="20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77120" y="68580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ter’s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to cover the renter in the event of flood, fire, theft or any other haz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in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35268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3505320"/>
            <a:ext cx="246708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2895480"/>
            <a:ext cx="1305000" cy="8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, gas, sewer, electricity, phone, cable, trash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he landlord will pay some or all utilities, BUT usually the tenant pays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 be a MAJOR consideration when leasing a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0880"/>
            <a:ext cx="819000" cy="1247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029200"/>
            <a:ext cx="129528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457200"/>
            <a:ext cx="101916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14600" y="58672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572000" y="5029200"/>
            <a:ext cx="1190520" cy="9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o transfer the remainder of the lease to another per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tenant is NO LONGER responsible for any rent or da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enant moves to another city and will not be returning to un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76920"/>
            <a:ext cx="1076400" cy="17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Subletting Your Pad: More Hassle Than It’s Worth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ant lease the property to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enant is still responsible for all rent, utilities and da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ollege student leaving for semester abroad and lets friend rent a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5181480"/>
            <a:ext cx="17524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4876920"/>
            <a:ext cx="16765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V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removing people from th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lord may only start proceedings after the tenant has failed to meet the terms of the 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nant must receive written legal notice of ev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YOUR RIGHTS AS A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1352520" cy="103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390680" cy="1247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4864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5410080"/>
            <a:ext cx="1038240" cy="11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ch of Contr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phrase for failure to meet the terms of a contract/le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payment of rent is usually the most common type of br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495680"/>
            <a:ext cx="1038240" cy="118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267080"/>
            <a:ext cx="2209680" cy="163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15200" y="1522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657600" y="4114800"/>
            <a:ext cx="130032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lo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s the following from ten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 to be paid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property in reasonabl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repairs to property. Can charge if the tenant is at fa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enter the property without written notice to the t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increase rent until the lease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no one can refuse to rent to people with children, the owner can limit the number of people living in the a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who rents a property from th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387440" cy="1841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05720" y="5257800"/>
            <a:ext cx="1717560" cy="139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819520" y="3886200"/>
            <a:ext cx="1419120" cy="18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l document signed by landlord and tenant agreeing to rent a property for a specific period of time and stating the rights and duties of both parties. Most binding type of agree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rent, late fees, when rent amount can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pays 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 (types and siz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1844640" cy="11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514520" cy="1506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72400" y="228600"/>
            <a:ext cx="115236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he Renta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Fee: fee for filling out the application. Helps the landlord to know that the renter is serio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25-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gher depending on city or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Che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s the landlord if the renter is paying bills on time. Usually checked through a credit agency and is confident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88620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886200"/>
            <a:ext cx="220032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Depos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 that covers costs for any future damage that the renter might cause to the property. Does not include normal “wear and tear” to the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qual 1 or more month’s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turned partially or in fu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1055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5029200"/>
            <a:ext cx="2476440" cy="14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 Depo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 that covers damages made by p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ntal properties only allow certain types of pets and there may be a weight ra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perties will also charge an extra fee per month per pet as well as the depos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85800"/>
            <a:ext cx="198108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4876920"/>
            <a:ext cx="1638360" cy="1457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457200"/>
            <a:ext cx="1133280" cy="1076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8120" y="5029200"/>
            <a:ext cx="190476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 on R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lord requires one or more month’s rent in addition to the security depo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733920"/>
            <a:ext cx="942840" cy="123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73392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6:35Z</dcterms:created>
  <dc:creator>s.brooks</dc:creator>
  <dc:description/>
  <dc:language>en-US</dc:language>
  <cp:lastModifiedBy>s.brooks</cp:lastModifiedBy>
  <dcterms:modified xsi:type="dcterms:W3CDTF">2010-05-12T12:47:02Z</dcterms:modified>
  <cp:revision>10</cp:revision>
  <dc:subject/>
  <dc:title>2.02 Financial and Legal Aspects of Renting</dc:title>
</cp:coreProperties>
</file>